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1240" y="6356520"/>
            <a:ext cx="184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46E28-44D5-493C-80C2-6FFC564E1ACE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9" descr="OHCHR_logo_EN_blue.png"/>
          <p:cNvPicPr/>
          <p:nvPr/>
        </p:nvPicPr>
        <p:blipFill>
          <a:blip r:embed="rId2"/>
          <a:stretch/>
        </p:blipFill>
        <p:spPr>
          <a:xfrm>
            <a:off x="7099200" y="6018120"/>
            <a:ext cx="1825560" cy="66060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UN_logo.jpg"/>
          <p:cNvPicPr/>
          <p:nvPr/>
        </p:nvPicPr>
        <p:blipFill>
          <a:blip r:embed="rId3"/>
          <a:stretch/>
        </p:blipFill>
        <p:spPr>
          <a:xfrm>
            <a:off x="6308640" y="6188040"/>
            <a:ext cx="57492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Image 8" descr="title_slide_background_3_shine.jpg"/>
          <p:cNvPicPr/>
          <p:nvPr/>
        </p:nvPicPr>
        <p:blipFill>
          <a:blip r:embed="rId4"/>
          <a:stretch/>
        </p:blipFill>
        <p:spPr>
          <a:xfrm>
            <a:off x="-648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12"/>
          <p:cNvSpPr/>
          <p:nvPr/>
        </p:nvSpPr>
        <p:spPr>
          <a:xfrm flipH="1">
            <a:off x="587520" y="1440"/>
            <a:ext cx="1440" cy="287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7" name="Picture 12" descr="ppt_white"/>
          <p:cNvPicPr/>
          <p:nvPr/>
        </p:nvPicPr>
        <p:blipFill>
          <a:blip r:embed="rId5"/>
          <a:stretch/>
        </p:blipFill>
        <p:spPr>
          <a:xfrm>
            <a:off x="4278240" y="5413320"/>
            <a:ext cx="4140360" cy="1150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3"/>
          </p:nvPr>
        </p:nvSpPr>
        <p:spPr>
          <a:xfrm>
            <a:off x="714240" y="6356520"/>
            <a:ext cx="275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8298A-2263-4D85-A987-79AB632BC901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4"/>
          </p:nvPr>
        </p:nvSpPr>
        <p:spPr>
          <a:xfrm>
            <a:off x="3575160" y="6356520"/>
            <a:ext cx="365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850680" y="6356520"/>
            <a:ext cx="173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DF5FF-D2F5-4C0A-9C40-01F3A03CD4B6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6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ZoneTexte 3"/>
          <p:cNvSpPr/>
          <p:nvPr/>
        </p:nvSpPr>
        <p:spPr>
          <a:xfrm>
            <a:off x="723960" y="320976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Pierre SOB and Saori TERADA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23600" y="4247640"/>
            <a:ext cx="65898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HCHR Training package on gender integration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eneva (November 2012  updat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23600" y="1665360"/>
            <a:ext cx="6589800" cy="15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HCHR GENDER EQUALIT</a:t>
            </a: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Y STRATEGIC PLAN:</a:t>
            </a:r>
            <a:br>
              <a:rPr sz="2800"/>
            </a:b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OUR COMMON RESPONSIBILITY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6fb7"/>
                </a:solidFill>
                <a:latin typeface="Arial"/>
              </a:rPr>
              <a:t>GENDER EQUALITY IN HUMAN RESOURCES MANAGEMENT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40880" y="1498680"/>
            <a:ext cx="7566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Job openings and interview questions integrate gender sensitivity as a criterion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Generic language for job openings is prepared (WRGS &amp; Gender facilitato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Development of generic gender questions and answers (WRGS in consultation with PSMS/HRM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Promote inclusion of gender sensitivity in competency-based interviews training programme (WRGS &amp; SDL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STRENGTHEN STAFF CAPACITY AND COMPETENCY IN GENDER INTEGRATION</a:t>
            </a:r>
            <a:br>
              <a:rPr sz="2800"/>
            </a:b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40880" y="1514520"/>
            <a:ext cx="75661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A training package on gender integration available to all staff members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Training material available in English finalized (WRGS in consultation with METS and GF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Design material for the online training and commission development to Consultant (WRG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Pilot test online training produced (WRGS &amp; a selection of use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Operational and validated online training becomes MANDATORY for all staff memb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COMMUNICATION AND KNOWLEDGE MANAGEMENT 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40880" y="1665000"/>
            <a:ext cx="756612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All staff are aware of the OHCHR GESP and its practical implications for their work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Standard briefing packages developed for roll-out to uni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GF to facilitate delivery of briefings at staff meetings on the GESP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WRGS to provide relevant documentation upon reques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REPORTING, EVALUATION AND OVERSIGHT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40880" y="1501920"/>
            <a:ext cx="756612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Integration of a gender perspective in Annual Work Plans and reported on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Tips and examples on the development of GMO3 activities prepared (WRGS, GF &amp; PPME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Information on references to GMO3 in AWP collected by PPM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Guidelines for WP reviewed to include a gender perspective (PPMES &amp; WRG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Guidelines disseminated widely by PPM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0880" y="477360"/>
            <a:ext cx="7566120" cy="1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------</a:t>
            </a:r>
            <a:br>
              <a:rPr sz="2800"/>
            </a:b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40880" y="1719000"/>
            <a:ext cx="756612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333333"/>
                </a:solidFill>
                <a:latin typeface="Arial"/>
              </a:rPr>
              <a:t>ADVANCING GENDER EQUALITY IN ALL AREAS OF OHCHR MANDAT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SUPPORT TO HRC AND MECHANISMS IN ENGENDERING THEIR WORK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40880" y="1596960"/>
            <a:ext cx="756612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Members States are made aware of the importance of gender balance in their delegations (participating and contributing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A template developed to reflect disaggregated categories of participants (HRCB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Data collected analyzed and results, including recommendations, made public as appropriate through the Bureau (HRC Secretariat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6fb7"/>
                </a:solidFill>
                <a:latin typeface="Arial"/>
              </a:rPr>
              <a:t>SYSTEMATIC INTEGRATION OF A GENDER PERSPECTIVE IN THE WORK OF SPECIAL PROCEDURE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40880" y="1992240"/>
            <a:ext cx="7566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Special procedures are conversant with gender integration methodologie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Study by SPB to document how a gender perspective has been integrated into SP work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SPB GF to engender existing checklists for missions and communica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SPB GF to prepare a gender integration induction session for new mandate-holders with the support of WRG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ENGENDERING TREATY BODIES WORK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40880" y="1418760"/>
            <a:ext cx="756612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Treaty bodies experts and Secretariat are familiar with gender equality in the context of each human rights instrumen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HRTD GF to map out and engender existing guidelines and checklists with support of WRG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HRTD GF to develop good practices for use by TB expert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HRTD GF and WRGS to organize an induction session for TB experts on gender integration methodologi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GENDER CUTS ACCROSS OHCHR RESEARCH AND THEMATIC WORK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40880" y="1514160"/>
            <a:ext cx="756612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The 2012-2014 Office thematic priorities integrate a gender perspectiv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WRGS to conduct a gender analysis of each thematic priorit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WRGS to further engender the existing thematic priorities in consultation with Team lead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WRGS to prepare a briefing Note of each thematic priorit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PROMOTION OF GENDER EQUALITY AT NATIONAL AND REGIONAL LEVEL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40880" y="1719360"/>
            <a:ext cx="75661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OHCHR Field presences fully implement the Office Gender equality Policy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WRGS to seek the increase of Regional Gender Advisers with FOTCD and PBRB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FOTCD GF to organize briefing sessions during the Annual Meeting of HoFP and Heads of Peace Miss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WRGS to pursue training programme on gender integration at regional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SOME MILESTONES ABOUT GENDER INTEGRATION AT OHCHR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58720" y="1582200"/>
            <a:ext cx="83232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OHCHR Policy Statement on Gender Mainstreaming and Human Rights of Women (2000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OHCHR Gender Mainstreaming Strategy (2002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Chief Executive Board for Coordination res. CEB/2006/2 on UN System-Wide Policy on gender equality and the empowerment of women: focusing  on results and impact (2006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OHCHR Gender Equality Policy (09 September 2011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STRENGTHENED STRATEGIC PARTNERSHIPS ON WOMEN’S HUMAN RIGHTS AND GENDER EQUALITY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40880" y="1706040"/>
            <a:ext cx="75661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OHCHR increasingly contributes to the global efforts to achieve gender equalit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200" spc="-1" strike="noStrike">
                <a:solidFill>
                  <a:srgbClr val="333333"/>
                </a:solidFill>
                <a:latin typeface="Arial"/>
              </a:rPr>
              <a:t>Provide support to the HRC Plenary panel discussion and side events on gender integra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200" spc="-1" strike="noStrike">
                <a:solidFill>
                  <a:srgbClr val="333333"/>
                </a:solidFill>
                <a:latin typeface="Arial"/>
              </a:rPr>
              <a:t>Respond to request on gender integration from human rights bodie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200" spc="-1" strike="noStrike">
                <a:solidFill>
                  <a:srgbClr val="333333"/>
                </a:solidFill>
                <a:latin typeface="Arial"/>
              </a:rPr>
              <a:t>Feed into the work of IANWGE and provide support in the SWAP areas of lea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200" spc="-1" strike="noStrike">
                <a:solidFill>
                  <a:srgbClr val="333333"/>
                </a:solidFill>
                <a:latin typeface="Arial"/>
              </a:rPr>
              <a:t>Contribute to harmonization of UN system gender integration methodologies and develop a cooperation agreement with UN Wom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EXERCISE 1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600" spc="-1" strike="noStrike">
                <a:solidFill>
                  <a:srgbClr val="006fb7"/>
                </a:solidFill>
                <a:latin typeface="Arial"/>
              </a:rPr>
              <a:t>EXERCISE 2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Image 6" descr="title_slide_background_3_white.jpg"/>
          <p:cNvPicPr/>
          <p:nvPr/>
        </p:nvPicPr>
        <p:blipFill>
          <a:blip r:embed="rId1"/>
          <a:stretch/>
        </p:blipFill>
        <p:spPr>
          <a:xfrm>
            <a:off x="4130640" y="0"/>
            <a:ext cx="5013360" cy="42307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6fb7"/>
                </a:solidFill>
                <a:latin typeface="Arial"/>
              </a:rPr>
              <a:t>QUESTIONS AND ANSWER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40880" y="1498320"/>
            <a:ext cx="75661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600" spc="-1" strike="noStrike">
                <a:solidFill>
                  <a:srgbClr val="333333"/>
                </a:solidFill>
                <a:latin typeface="Arial"/>
              </a:rPr>
              <a:t>For further information,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600" spc="-1" strike="noStrike">
                <a:solidFill>
                  <a:srgbClr val="333333"/>
                </a:solidFill>
                <a:latin typeface="Arial"/>
              </a:rPr>
              <a:t>please visit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2600" spc="-1" strike="noStrike">
                <a:solidFill>
                  <a:srgbClr val="006fb7"/>
                </a:solidFill>
                <a:latin typeface="Arial"/>
              </a:rPr>
              <a:t>www.ohchr.org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PURPOSE AND RATIONALE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40880" y="1555560"/>
            <a:ext cx="7566120" cy="42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Lays out concrete actions to advance gender equality, in both the institutional  setting and work of the offic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Continues to be informed </a:t>
            </a: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by the 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human rights-based approach </a:t>
            </a: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and the 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gender</a:t>
            </a: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ntegration</a:t>
            </a: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policy</a:t>
            </a: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 of the United Nations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Designed to integrate elements of the CEB/SWAP. It also includes GMO 3 which requires the integration of a gender perspective office-wide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6fb7"/>
                </a:solidFill>
                <a:latin typeface="Arial"/>
              </a:rPr>
              <a:t>SCOPE AND TIMELINE 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40880" y="1392120"/>
            <a:ext cx="7566120" cy="45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Applicable to all OHCHR staff members at HQ and in the field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nternal monitoring mechanisms are being developed to assess implementation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Implementation limited to 2012-2013 biennium to establish baselines, ascertain applicability and enhance ownership among all staff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6fb7"/>
                </a:solidFill>
                <a:latin typeface="Arial"/>
              </a:rPr>
              <a:t>IMPLEMENTATION MACHINERY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40880" y="1240920"/>
            <a:ext cx="7566120" cy="47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Strategic Plan will be implemented with the support of an integrated gender architecture including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Women’s Human Rights and Gende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Regional Gender Adviser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ender Facilitator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ender Focal Point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epartmental Focal Points for Wome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The Senior Human Rights Adviser on Sexual orientation and gender identity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All support staff to the above mentioned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0880" y="519120"/>
            <a:ext cx="7566120" cy="2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006fb7"/>
                </a:solidFill>
                <a:latin typeface="Arial"/>
              </a:rPr>
              <a:t>……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40880" y="1146240"/>
            <a:ext cx="7566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H" sz="2800" spc="-1" strike="noStrike">
                <a:solidFill>
                  <a:srgbClr val="333333"/>
                </a:solidFill>
                <a:latin typeface="Arial"/>
              </a:rPr>
              <a:t>GENDER EQUALITY IN OHCHR ORGANIZATIONAL CULTURE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40880" y="274680"/>
            <a:ext cx="7566120" cy="13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6fb7"/>
                </a:solidFill>
                <a:latin typeface="Arial"/>
              </a:rPr>
              <a:t>STRENGTHENING ACCOUNTABILITY FOR GENDER EQUALITY AMONG ALL STAFF MEMBERS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40880" y="1951200"/>
            <a:ext cx="7566120" cy="37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E-Performance documents reflect gender integration responsibility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Generic language developed (WRGS &amp; Gender Facilitato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Guidelines, tracking methodology for reporting prepared (WRGS &amp; PPME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All staff and first reporting officers informed of the requirement above (Senior Managers and Gender Facilitato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6fb7"/>
                </a:solidFill>
                <a:latin typeface="Arial"/>
              </a:rPr>
              <a:t>CREATE AN ORGANIZATIONAL CULTURE CONDUCIVE TO GENDER EQUALITY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40880" y="1501920"/>
            <a:ext cx="7566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600" spc="-1" strike="noStrike">
                <a:solidFill>
                  <a:srgbClr val="333333"/>
                </a:solidFill>
                <a:latin typeface="Arial"/>
              </a:rPr>
              <a:t>Flexible Working Arrangements used, implemented and monitored: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OHCHR specific guidelines on FWA prepared (PSM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Managers encourage team discussions on FW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Disaggregated data gathered annually on its implementation (PSMS/HRM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Report on use of FWA shared with staff annually (HC or Chief PSM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006fb7"/>
                </a:solidFill>
                <a:latin typeface="Arial"/>
              </a:rPr>
              <a:t>INTRODUCTION IN OHCHR OF A GENDER RESPONSIVE BUDGET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40880" y="1787400"/>
            <a:ext cx="7566120" cy="41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400" spc="-1" strike="noStrike">
                <a:solidFill>
                  <a:srgbClr val="333333"/>
                </a:solidFill>
                <a:latin typeface="Arial"/>
              </a:rPr>
              <a:t>Guidelines on gender responsive budgeting developed in OHCHR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200" spc="-1" strike="noStrike">
                <a:solidFill>
                  <a:srgbClr val="333333"/>
                </a:solidFill>
                <a:latin typeface="Arial"/>
              </a:rPr>
              <a:t>Engagement with UN agencies having experience in GRB management (UNICEF, UNDP, UN Women, GenCap, IASC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fr-CH" sz="2200" spc="-1" strike="noStrike">
                <a:solidFill>
                  <a:srgbClr val="333333"/>
                </a:solidFill>
                <a:latin typeface="Arial"/>
              </a:rPr>
              <a:t>Commission study on modalities of introduction of GRB in OHCHR (in consultation with PPMES &amp; PSMS)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H" sz="2200" spc="-1" strike="noStrike">
                <a:solidFill>
                  <a:srgbClr val="333333"/>
                </a:solidFill>
                <a:latin typeface="Arial"/>
              </a:rPr>
              <a:t>Seek endorsement of project by SM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44:31Z</dcterms:created>
  <dc:creator>Eddy Hill</dc:creator>
  <dc:description/>
  <dc:language>en-US</dc:language>
  <cp:lastModifiedBy>Pierre SOB</cp:lastModifiedBy>
  <dcterms:modified xsi:type="dcterms:W3CDTF">2012-11-22T12:12:34Z</dcterms:modified>
  <cp:revision>179</cp:revision>
  <dc:subject/>
  <dc:title>Englis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Office Template">
    <vt:lpwstr>Presentation (Powerpoint)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TemplateUrl">
    <vt:lpwstr/>
  </property>
  <property fmtid="{D5CDD505-2E9C-101B-9397-08002B2CF9AE}" pid="7" name="display_urn:schemas-microsoft-com:office:office#Author">
    <vt:lpwstr>David McCreery</vt:lpwstr>
  </property>
  <property fmtid="{D5CDD505-2E9C-101B-9397-08002B2CF9AE}" pid="8" name="display_urn:schemas-microsoft-com:office:office#Editor">
    <vt:lpwstr>David McCreery</vt:lpwstr>
  </property>
  <property fmtid="{D5CDD505-2E9C-101B-9397-08002B2CF9AE}" pid="9" name="xd_ProgID">
    <vt:lpwstr/>
  </property>
  <property fmtid="{D5CDD505-2E9C-101B-9397-08002B2CF9AE}" pid="10" name="xd_Signature">
    <vt:lpwstr/>
  </property>
</Properties>
</file>